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91E-EB5D-4952-B527-DBD83E17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82B-AF4F-4379-88D7-AC504DE1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DF3-6DDA-4515-8E7A-BC8DD41E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3A9C-EF3B-4E53-8140-262FECB2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0130-45D6-4C06-A8BA-5B4378C4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7FF2-D6FE-4831-9689-74ADC080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E11A-BFA6-4747-93FD-2803F763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301E-9E0F-4076-BEA8-01D872D0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BE27-3132-4594-A865-10A71D99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770F-17D2-493A-8AE1-424368B3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FD62-4B3B-40EF-9550-F16F17C1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3A1-190D-4C9B-97D2-BCDEFCFA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16AE-6EAB-40A2-A04C-55D47B26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BEC3-366E-40EE-B743-C09C3A4A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1255-0CEF-44A6-AF94-85F81BB2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5B5A-F1A4-486B-954E-5F824255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D0AB-A02B-4F05-85DF-6951E7BB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6AE87-DAC4-4FA4-897B-EEB08F00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DF5A-11E7-4A42-AE30-52F45476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1358-BC85-48FC-8E59-CCF13F71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E60C1-B388-4BBD-ACC6-2A65B4CC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6AB3-1AC3-4B6E-81D0-7D5C33FC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A7E-F1F8-40BE-833C-291FA3BD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E2CF-1A90-44AE-AE08-34CEEA0D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78C2-474C-4823-95B0-423541F7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227C-36C7-46E4-8506-DB4838AD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0F5AF-4F12-4453-833F-810566BD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1A2DC-CECC-4DB3-86F4-BE9BB521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B7E8-D4EB-4E45-B934-B1EAC02F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7EB3A-C3B8-4A22-9A30-3748AFE2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B18A-43B1-4006-821B-44A30F0D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0A83B-3AC9-4727-973A-1611EC23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D5C11-56D2-4F90-B279-9450476A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2B4-9CD0-41A2-BDD2-2593C01A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7996-2766-437B-85C6-1845E707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2FC1-CFC0-43EE-B2FF-C70A3D67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B1A9-2E20-4D12-B1F2-548065DF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F1586-2A32-4A5E-A787-1C791CB9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F173D-B12F-471E-9E4D-DCCF981F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E2D77-A987-462A-BF80-B7FF5BE5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BD3F-DEF7-4EA2-B81D-E4EF153B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96160-26D1-4623-AF2C-A0292049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0AD2D-C6B4-4536-B980-3CE86EA6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AC854-460B-4FDB-8FDF-4FA5E206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5FA-A5FC-45DC-AA3F-6EE22F6A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B688B-D9E6-4C6B-A15D-E6A81CA2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FC19-9ED8-4846-A797-362C5182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66166-EDA2-4D84-91FA-0CAEB324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5184A-70AA-41B7-A9CA-27F45D46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7D581-7907-4063-9C82-E7A23717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69827-3788-493E-9F60-B806E2EC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BE563-266A-4373-A0D4-94D2F7C6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DE5E7-7D27-438F-998E-536DD425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34957-9CE6-4DE8-8227-9DDE3A6B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1D5D2-1B25-4824-A607-044898DD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684-0E9D-419D-B775-031F7AF4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5E4C0-9E6F-49F6-841F-859EBD1B2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DC2-6932-46F8-A977-44BE191D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DDC-9FCC-446D-A3ED-1A2A3E0B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52F-1E38-46E3-AB1B-A85C8EBF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6666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69B-DE4A-4392-B2EE-35F3D0BB0D1B}" type="slidenum">
              <a:rPr b="0" lang="en-AU" sz="1100" spc="-1" strike="noStrike">
                <a:solidFill>
                  <a:srgbClr val="666666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D3D6-65FA-462E-BB4E-04E9365F1CFC}" type="slidenum">
              <a:rPr b="0" lang="en-AU" sz="11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6666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7B2B-5FBD-4EA1-96AE-9856287265B6}" type="slidenum">
              <a:rPr b="0" lang="en-AU" sz="1100" spc="-1" strike="noStrike">
                <a:solidFill>
                  <a:srgbClr val="666666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2d2d2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2d2d2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2d2d2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d2d2d2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B758-A477-4AAD-9265-423B039D6546}" type="slidenum">
              <a:rPr b="0" lang="en-AU" sz="1100" spc="-1" strike="noStrike">
                <a:solidFill>
                  <a:srgbClr val="d2d2d2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6666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6666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2E0B-704F-4878-B5EB-9679635C51FA}" type="slidenum">
              <a:rPr b="0" lang="en-AU" sz="1100" spc="-1" strike="noStrike">
                <a:solidFill>
                  <a:srgbClr val="666666"/>
                </a:solidFill>
                <a:latin typeface="Century 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286080" y="3785760"/>
            <a:ext cx="5572080" cy="2714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2" action="ppaction://hlinksldjump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3" action="ppaction://hlinksldjump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4" action="ppaction://hlinksldjump"/>
              </a:rPr>
              <a:t>Que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5" action="ppaction://hlinksldjump"/>
              </a:rPr>
              <a:t>Democrac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6" action="ppaction://hlinksldjump"/>
              </a:rPr>
              <a:t>Ay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7" action="ppaction://hlinksldjump"/>
              </a:rPr>
              <a:t>Bil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8" action="ppaction://hlinksldjump"/>
              </a:rPr>
              <a:t>Law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17bbfd"/>
                </a:solidFill>
                <a:uFillTx/>
                <a:latin typeface="Century Gothic"/>
                <a:hlinkClick r:id="rId9" action="ppaction://hlinksldjump"/>
              </a:rPr>
              <a:t>Federa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Heart 3"/>
          <p:cNvSpPr/>
          <p:nvPr/>
        </p:nvSpPr>
        <p:spPr>
          <a:xfrm>
            <a:off x="428760" y="1785960"/>
            <a:ext cx="7500960" cy="3429000"/>
          </a:xfrm>
          <a:prstGeom prst="pie">
            <a:avLst/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7254720" cy="1013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An Independent is a member of parliament who does not belong to a political party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Rounded Rectangle 5"/>
          <p:cNvSpPr/>
          <p:nvPr/>
        </p:nvSpPr>
        <p:spPr>
          <a:xfrm>
            <a:off x="6429240" y="6000840"/>
            <a:ext cx="1714680" cy="857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17bbfd"/>
                </a:solidFill>
                <a:uFillTx/>
                <a:latin typeface="Century Gothic"/>
                <a:hlinkClick r:id="rId2" action="ppaction://hlinksldjump"/>
              </a:rPr>
              <a:t>Back to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7254720" cy="1158840"/>
          </a:xfrm>
          <a:prstGeom prst="rect">
            <a:avLst/>
          </a:prstGeom>
          <a:ln w="0">
            <a:noFill/>
          </a:ln>
        </p:spPr>
      </p:pic>
      <p:sp>
        <p:nvSpPr>
          <p:cNvPr id="227" name="Sun 3"/>
          <p:cNvSpPr/>
          <p:nvPr/>
        </p:nvSpPr>
        <p:spPr>
          <a:xfrm>
            <a:off x="571680" y="1357200"/>
            <a:ext cx="7000560" cy="5214960"/>
          </a:xfrm>
          <a:prstGeom prst="sun">
            <a:avLst>
              <a:gd name="adj" fmla="val 25000"/>
            </a:avLst>
          </a:prstGeom>
          <a:solidFill>
            <a:srgbClr val="00b05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760" y="12855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Gothic"/>
              </a:rPr>
              <a:t>Government mean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entury Gothic"/>
              </a:rPr>
              <a:t>to rule or contro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6572160" y="6000840"/>
            <a:ext cx="1571760" cy="857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 u="sng">
                <a:solidFill>
                  <a:srgbClr val="17bbfd"/>
                </a:solidFill>
                <a:uFillTx/>
                <a:latin typeface="Century Gothic"/>
                <a:hlinkClick r:id="rId2" action="ppaction://hlinksldjump"/>
              </a:rPr>
              <a:t>Back to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7254720" cy="1159200"/>
          </a:xfrm>
          <a:prstGeom prst="rect">
            <a:avLst/>
          </a:prstGeom>
          <a:ln w="0">
            <a:noFill/>
          </a:ln>
        </p:spPr>
      </p:pic>
      <p:sp>
        <p:nvSpPr>
          <p:cNvPr id="231" name="Smiley Face 3"/>
          <p:cNvSpPr/>
          <p:nvPr/>
        </p:nvSpPr>
        <p:spPr>
          <a:xfrm>
            <a:off x="1428840" y="1785960"/>
            <a:ext cx="5286240" cy="4214880"/>
          </a:xfrm>
          <a:prstGeom prst="smileyFace">
            <a:avLst>
              <a:gd name="adj" fmla="val 9282"/>
            </a:avLst>
          </a:prstGeom>
          <a:solidFill>
            <a:srgbClr val="00b0f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entury Gothic"/>
              </a:rPr>
              <a:t>The Queen is Australia’s head of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5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17bbfd"/>
                </a:solidFill>
                <a:uFillTx/>
                <a:latin typeface="Century Gothic"/>
                <a:hlinkClick r:id="rId2" action="ppaction://hlinksldjump"/>
              </a:rPr>
              <a:t>Back to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7248600" cy="1158840"/>
          </a:xfrm>
          <a:prstGeom prst="rect">
            <a:avLst/>
          </a:prstGeom>
          <a:ln w="0">
            <a:noFill/>
          </a:ln>
        </p:spPr>
      </p:pic>
      <p:sp>
        <p:nvSpPr>
          <p:cNvPr id="234" name="Pie 3"/>
          <p:cNvSpPr/>
          <p:nvPr/>
        </p:nvSpPr>
        <p:spPr>
          <a:xfrm>
            <a:off x="1714680" y="1357200"/>
            <a:ext cx="5286240" cy="4714920"/>
          </a:xfrm>
          <a:prstGeom prst="pie">
            <a:avLst/>
          </a:prstGeom>
          <a:solidFill>
            <a:srgbClr val="ff66ff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4296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Democracy is a form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of government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Rounded Rectangle 5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Gothic"/>
              </a:rPr>
              <a:t>Back to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Cloud Callout 3"/>
          <p:cNvSpPr/>
          <p:nvPr/>
        </p:nvSpPr>
        <p:spPr>
          <a:xfrm>
            <a:off x="1428840" y="1928880"/>
            <a:ext cx="5715000" cy="3286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7bbff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856800" y="201096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Aye is another word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for yes in parliament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4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Gothic"/>
              </a:rPr>
              <a:t>Back to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Moon 3"/>
          <p:cNvSpPr/>
          <p:nvPr/>
        </p:nvSpPr>
        <p:spPr>
          <a:xfrm>
            <a:off x="1643040" y="2071800"/>
            <a:ext cx="4572000" cy="4357440"/>
          </a:xfrm>
          <a:custGeom>
            <a:avLst/>
            <a:gdLst>
              <a:gd name="textAreaLeft" fmla="*/ 2328480 w 4572000"/>
              <a:gd name="textAreaRight" fmla="*/ 2994120 w 4572000"/>
              <a:gd name="textAreaTop" fmla="*/ 280080 h 4357440"/>
              <a:gd name="textAreaBottom" fmla="*/ 4077360 h 43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7873" y="2538"/>
                  <a:pt x="14146" y="5080"/>
                  <a:pt x="14146" y="10800"/>
                </a:cubicBezTo>
                <a:cubicBezTo>
                  <a:pt x="14146" y="16520"/>
                  <a:pt x="17873" y="190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A bill is a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proposal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to a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new law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Rounded Rectangle 4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Gothic"/>
              </a:rPr>
              <a:t>Back to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Pentagon 3"/>
          <p:cNvSpPr/>
          <p:nvPr/>
        </p:nvSpPr>
        <p:spPr>
          <a:xfrm>
            <a:off x="2571840" y="2000160"/>
            <a:ext cx="4000320" cy="2071800"/>
          </a:xfrm>
          <a:custGeom>
            <a:avLst/>
            <a:gdLst>
              <a:gd name="textAreaLeft" fmla="*/ 0 w 4000320"/>
              <a:gd name="textAreaRight" fmla="*/ 4000680 w 400032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07" y="0"/>
                </a:lnTo>
                <a:lnTo>
                  <a:pt x="21600" y="10800"/>
                </a:lnTo>
                <a:lnTo>
                  <a:pt x="160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66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13880" y="1714680"/>
            <a:ext cx="723924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A law is a rule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or a set of rules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ounded Rectangle 4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Gothic"/>
              </a:rPr>
              <a:t>Back to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val Callout 3"/>
          <p:cNvSpPr/>
          <p:nvPr/>
        </p:nvSpPr>
        <p:spPr>
          <a:xfrm>
            <a:off x="1214280" y="1928880"/>
            <a:ext cx="5429520" cy="2428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356760" y="157140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Federal means having t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do with the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entury Gothic"/>
              </a:rPr>
              <a:t>Parliament of Australia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Rounded Rectangle 4"/>
          <p:cNvSpPr/>
          <p:nvPr/>
        </p:nvSpPr>
        <p:spPr>
          <a:xfrm>
            <a:off x="6357960" y="6072120"/>
            <a:ext cx="178596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entury Gothic"/>
              </a:rPr>
              <a:t>End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0:42:44Z</dcterms:created>
  <dc:creator>Gr56</dc:creator>
  <dc:description/>
  <dc:language>en-US</dc:language>
  <cp:lastModifiedBy>Gr56</cp:lastModifiedBy>
  <dcterms:modified xsi:type="dcterms:W3CDTF">2009-10-27T23:16:02Z</dcterms:modified>
  <cp:revision>11</cp:revision>
  <dc:subject/>
  <dc:title>anna’s parliament  power point</dc:title>
</cp:coreProperties>
</file>